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AE7-AEFC-4DBC-A97C-6B5C987D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BB6-A04F-4A71-BF6D-C17CC91A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2F6-DF30-4A51-99DA-FD3E4E50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9F1-8C49-4592-8324-31516E57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1A1F0-62AA-42BE-8A2D-70C2AC9E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BEFBA-9C8F-4262-A1A3-55560AC5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EB3C9-2AA0-4D91-9F1F-466B1944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522E3-3508-49D4-87E1-D1D645C4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FD49C-4284-466F-92FD-E915EFDE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8E5BF-48CE-4400-B292-336B147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3AA14-FA22-4818-A51F-9FD27D6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B37-70CD-4AF1-992C-078AB91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F2BBF-6413-44CE-A4E4-B352216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F79E-B771-4532-80A1-D364E05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490FD-F8FF-46C6-90FA-9683363F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DE8D5-7C2C-474F-A5CC-86EF4B8A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39337-5F78-49D0-97D1-7E82AE2B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B6B1-9A36-44A6-99F8-922604BD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2CFC-8689-4600-9D72-52E75BD0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D6EF-8487-49EC-9319-497D6D1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B058-CEF1-4C93-9116-305A1E25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322A-3D65-4519-B820-7DE7A66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F48-CD01-4830-AB40-C09B9D6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5E03-8B92-4101-8E19-934D2A13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19FB-1C12-4FF7-8B50-08556363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CBF5-4B0C-49D6-A38D-E8FC4DEE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3DFA-7AE6-4892-9A5E-6D2636B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9BE0-9F48-4C12-9090-6D09586B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9902-42A4-4F24-9152-8450AA3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E3A7-E639-41AF-8C1C-D2C346C3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8C7A9-0051-4DE9-A4A7-BBF2C39A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FC690-8598-4CF9-9BDB-ECE2E3C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97749C-519F-4951-8879-8E88F2DE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72C-7BCC-428A-B137-18C6F508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3910D-9F1F-4D30-A781-AC9E8239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134C6-2D18-4762-A4E0-21486F64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85E4E-30C0-48ED-A7D9-9CCD0AE1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1B18E-1D1E-4261-8F9E-1ECF6B7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362AB-8B3D-472C-A657-FF99818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B5C2F-83F5-4032-813B-B9A682E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CBAFB-EE6C-4AF4-9BBF-977A2E4C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356E7-6913-447A-A12B-15B6BBFD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DA189-F398-4440-94D0-BCC80BC2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15A-7D62-40BB-9D26-7A0B1645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3A8-C012-4405-9584-C6F583D2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EAA-1A5C-4AF5-A71D-663C6AA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785-F773-4C63-B5F6-5FB0FD6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CDC-9BED-47DD-B403-AEDEDA74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CBF7-1C0E-4ECC-BCEB-14846075B62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1EFF-1D2B-4B26-A081-D1F19C7DC0C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939F-D9AC-4FD6-8F2E-5E37DE927AE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6A98-C16C-460F-A996-333A331AF5E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8315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070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n alternator is an electromechanical device that converts mechanical energy to alternating current electrical energ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070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 principle, any AC electrical generator can be called an alternator. Generally large alternators in power stations which are driven by steam turbines are called turbo-alternator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Title 2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8448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tent Placeholder 1" descr=""/>
          <p:cNvPicPr/>
          <p:nvPr/>
        </p:nvPicPr>
        <p:blipFill>
          <a:blip r:embed="rId1"/>
          <a:stretch/>
        </p:blipFill>
        <p:spPr>
          <a:xfrm>
            <a:off x="298440" y="1474920"/>
            <a:ext cx="8516880" cy="4627440"/>
          </a:xfrm>
          <a:prstGeom prst="rect">
            <a:avLst/>
          </a:prstGeom>
          <a:ln w="0">
            <a:noFill/>
          </a:ln>
        </p:spPr>
      </p:pic>
      <p:pic>
        <p:nvPicPr>
          <p:cNvPr id="174" name="Title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ATOR: The Stationary part of the alternator which carries the armature wi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OTOR: The Rotating part of the alternator which carries the field wi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ntent Placeholder 3" descr="alternator212.jpg"/>
          <p:cNvPicPr/>
          <p:nvPr/>
        </p:nvPicPr>
        <p:blipFill>
          <a:blip r:embed="rId1"/>
          <a:stretch/>
        </p:blipFill>
        <p:spPr>
          <a:xfrm>
            <a:off x="1231920" y="1468440"/>
            <a:ext cx="6680160" cy="9345600"/>
          </a:xfrm>
          <a:prstGeom prst="rect">
            <a:avLst/>
          </a:prstGeom>
          <a:ln w="0">
            <a:noFill/>
          </a:ln>
        </p:spPr>
      </p:pic>
      <p:pic>
        <p:nvPicPr>
          <p:cNvPr id="178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ntent Placeholder 3" descr="alternator-cutaway.gif"/>
          <p:cNvPicPr/>
          <p:nvPr/>
        </p:nvPicPr>
        <p:blipFill>
          <a:blip r:embed="rId1"/>
          <a:stretch/>
        </p:blipFill>
        <p:spPr>
          <a:xfrm>
            <a:off x="1279440" y="1511280"/>
            <a:ext cx="6284880" cy="4608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1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627440"/>
          </a:xfrm>
          <a:prstGeom prst="rect">
            <a:avLst/>
          </a:prstGeom>
          <a:ln w="0">
            <a:noFill/>
          </a:ln>
        </p:spPr>
      </p:pic>
      <p:pic>
        <p:nvPicPr>
          <p:cNvPr id="182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-language is the most versatile and popular computer language because it is a structured, high level and machine independent languag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ograms written in C are efficient and fast. C has its ability to extend itself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esign of Turbo-Alternator using C-languag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lternator is the primary source of all the electrical energy that we consume and is the largest energy converter found in the worl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re in this project effort will be made to design a Turbo-Alternator using C-languag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13:38Z</dcterms:created>
  <dc:creator/>
  <dc:description>Electrical Projects</dc:description>
  <dc:language>en-US</dc:language>
  <cp:lastModifiedBy>Brigade</cp:lastModifiedBy>
  <dcterms:modified xsi:type="dcterms:W3CDTF">2011-08-24T06:35:43Z</dcterms:modified>
  <cp:revision>0</cp:revision>
  <dc:subject>Electrical Projects</dc:subject>
  <dc:title>EEE IEEE Projects</dc:title>
</cp:coreProperties>
</file>